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141D-49BF-4CEF-AE4E-9B43AF7D2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AC17-6A35-40F1-8C4C-14E862260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2A3CC9-CF29-4056-AA39-8E48A65D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1D6BAD-6313-45F0-A9DC-6FBFE0A32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BC990E-20F9-46F0-9EB3-BC0AE3E4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66C3C7-0F8F-46C6-8579-12CE1088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8358E5-D3DE-4C70-9DF5-FC9008F3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C97896-6B26-4880-A967-B0DB1339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A7239C-A6AC-4530-A82E-18F170A3A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CE89CC-DBA0-4D0F-AF63-678CE957D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4DBBF4-D76C-4199-A4F4-9D90F689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EBA02-4DB2-4228-B280-07CAEC19A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3C96-C485-48D8-9FFB-69B65586D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B7E342-8601-4488-B487-83C14FB7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0726D2-88EF-4EED-8F8F-9116A392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39B91-E5E3-4601-8F95-15C391BC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368A3F-FD33-4B0E-BD25-33E36FB1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9774E1-1E50-482B-B037-4BBC5061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9EDEDE-3987-4ED9-863C-9F4C68BD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1964A1-7F0A-4D06-96AE-F9DCA10D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9ACDF9-05B2-498D-BB8E-E231C88A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E72D66-EC06-43EB-BDFF-34E83D33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4D472E-1A0B-4EFA-B139-D7553BBF7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E632-6EAE-427A-8D39-EA2C81630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293922-E681-45DC-A4EB-A4334D6BB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7F8B2B-8C51-4239-89BE-5989B246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3DEF6C2-0B42-465B-AC22-5D8C80B1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1DFF5C-3614-4DEF-BE38-016DEE1CF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1AE7E50-6B77-41A5-A167-7A619576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CBD8873-4D07-4F4C-AC51-182CC934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A5F4E38-A561-4151-BB02-45FB64D0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7BA51F-FBF1-4BC9-BCB5-18DB30C9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0FB366D-1463-4144-8BF3-D9D8E18F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FAE1698-208C-4533-A0A9-042894DE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5149-ADAC-4F55-BBFD-76DE4B79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116068E-E4F3-40BD-A11E-4B004E27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7808F97-9D6E-4927-8774-B615841C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76A1253-D6A6-46BC-9561-AB094A56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895D3-A44B-48C4-BC8A-9E2D1217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05BCA-A185-4DEF-93DD-BA2985F4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A7D66-C558-40EB-AE4F-37AD35E6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E576-F47A-4DB4-83AE-09DA5416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A284-3F29-4F2F-8037-9AF562C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D351F-ECBC-4E8B-A696-E7AE750D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3766-B764-4C62-ADCC-A411041D1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6FFD-050B-445C-820B-CC7F98F4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6138-B2D9-4E29-9B2D-EF53AD9A5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5E2A-D543-4C1B-8208-474B21AD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78094-7F20-4644-BB55-61F2947C6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1D75-B2E4-4A58-9805-9D49BB7E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430E2F-AB2A-46A9-9956-8D33FFC8193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56D4D0-336A-4FCF-A849-8B913E6E59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28D5A-2858-4722-8B8D-C96E684B939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DA316E-380B-4076-8F56-CF61F557FCE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CA5358-E271-4191-A5B7-E83E0DC523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C73-D03E-49EA-9D9B-F442BB1A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02BA3A-77C3-4C7E-A6C9-65ABC0395DA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758C58-11D6-419A-BE36-489731AF48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04FB4-7C00-4ED9-9722-AA51EE13DC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94B3A-DFC6-410B-9CA7-9B155FBA72D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7E420A-9402-4BCD-9B1C-DD83D7B54EE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BFFAC-1E43-46A1-9B53-08E967DFC7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80508-EB80-4605-80CB-E7DAEBA0E80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65A76-0467-43EC-8167-E83F5F968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821E05-477B-4CFD-B4B4-489DBE8C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B4A1A3-B083-4520-974C-A94AD47C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4728-FE43-47FB-87DF-2680EE4FC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7336EC-4DE9-4C51-8817-D4BE96725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A9F8B3-6B0D-4631-B4B0-D6460C0CC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4B8FDC6-B410-477D-9267-224FABB3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CCEF44-960D-4965-B6EF-158E5724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B58238-2B60-4E97-8226-E17EDFB4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FFE4F8-4B50-4AA7-95BC-7B2E88BF7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82A54B-383B-4207-8D9D-117C96CC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3EB56B-F19E-43C5-B581-DAEB5E3A6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F492E2C-9A3A-4D35-BF97-B0DB0BF00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B3954C-0069-48EF-B063-1DB1B60C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4486-8D5B-44CF-8F8A-4284EF9F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A95CC8-ECF6-4398-9491-EC106411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7B9541-6E25-410A-AC5C-6F2F0E83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DDA4A3-2235-4851-9930-872E45CB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8D9209E-9B2A-483E-9755-5E34B873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834AF5-740A-49A1-A2D4-D501D103A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FEB7D1F-3172-4FBA-8B9D-09004218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C68B8B-D927-46B5-8E24-7BAB7133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36070A-DDFC-488E-9B47-86F446EE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F3A83A-C88E-4EE2-A8BE-35ABFB76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EDEB70-1A97-46ED-A236-DFEFC2C4D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8913-708B-4FAD-9E60-7B8C7E9A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24D4A5-3197-4D83-8C68-29248892A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06A791-16E6-4581-8F4A-C5BD7881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0A7E68-A298-4E4A-84AB-A78F09E1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C12F858-8033-492D-A23C-80CA04F2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997373-5AAE-426D-B975-698A097F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FC6260-6593-4964-908D-1D5CECA28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4B0C0-1335-41FF-883B-A32E0676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136D74-0FD3-4CD8-A5A3-065E9C2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1A2ED5-F46D-42BA-B175-88FEF6DA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1541BB-4138-4F3F-9F45-A6B62B26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AB18-8D35-42AC-8EA6-3BE88B1E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32C2503-AD89-40E0-80C1-69A432278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53837A-F003-491F-A237-5AF5821A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9D0330-3C6D-4B52-B7F4-0B5B0075D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D93EC0-7E73-474D-8817-7601BE79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313F8-E65B-49F3-8681-69E3D58A4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EF1995-1BDD-4A98-AE9C-B4A4CDB6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A0B2BC-5213-47AC-B666-2DB8DCD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0946F3-8F17-4591-BF5C-49D5928F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4D692F-9B4D-4D17-9E38-E9935091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6A8112-4026-4CC4-A5A9-01C0B4ADC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26D-DE6C-4ACD-B263-8638C3FB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FA59AE-2288-4C7B-A094-62880077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913AC7-C5F2-4885-AD9D-672E848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B2DF2-A61A-4FE2-832C-A3ACC480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2347C2-F4B2-41AF-862B-86E82FB7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1C2F3C-EC64-4F42-9FBD-D8BEA2E5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1E98D2-F1E6-4843-B540-989AF0AB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3AE6F79-AD5F-49AF-A878-129C751D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8D24D-F18B-4058-BFBF-BC5DEF315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A7DB1C-E75C-418A-ABCD-0C2A014EB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2904842-DBB8-4098-9FC4-F5CE1FAA5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E9F-79AD-4806-9F81-BF4EE860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685800"/>
            <a:ext cx="80773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A840B7-F018-409C-866A-34697C39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639DD16-9262-491B-BFBE-1FC49D40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7A9AD2-FFE5-4E0C-942E-6352F08B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B8F99A-63EC-48F6-91FD-20E27112A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4253400"/>
            <a:ext cx="8077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B0BE47-55D9-46CC-BBEE-A0065346C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96120" y="190512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96120" y="4253400"/>
            <a:ext cx="3941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FA431D-8790-4076-8EFB-A0F05E22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8780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19120" y="190512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8780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19120" y="4253400"/>
            <a:ext cx="260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07ECA33-AB4D-434C-88B5-41F4E493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5D30F5-66D9-44A0-B6E5-B2E55839D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04D125-EDFC-400F-A245-013CD7EEB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9DC27-35F5-4B3C-A98C-B39FB96E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9080" y="685440"/>
            <a:ext cx="7086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7908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3" marL="156816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4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1D0-9A31-4EF0-8C59-C3BCB2C042F4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body"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1" marL="668520" indent="-25704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2" marL="102852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3" marL="144000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4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5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  <a:p>
            <a:pPr lvl="6" marL="1851480" indent="-20556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6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7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8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5A65F-8E08-4E1B-80A0-E27EEC82644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47640" y="1447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dt" idx="29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ftr" idx="30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sldNum" idx="31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A3C31-7242-4BFD-900C-FE8E3F280E93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79080" y="1599840"/>
            <a:ext cx="708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29240"/>
            <a:ext cx="289584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42924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73A26-CC0C-4A76-AA0E-54084675C90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9640" y="21384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439640" y="1709280"/>
            <a:ext cx="727236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666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7"/>
          </p:nvPr>
        </p:nvSpPr>
        <p:spPr>
          <a:xfrm>
            <a:off x="8629200" y="6237360"/>
            <a:ext cx="576360" cy="38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00EEC-7B79-40F2-9C54-54723C6231DC}" type="slidenum"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47560" y="274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447560" y="1600200"/>
            <a:ext cx="731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8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9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10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2F705-1441-4C9A-8CE0-38AD4F9D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2880" y="2971800"/>
            <a:ext cx="7313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1"/>
          </p:nvPr>
        </p:nvSpPr>
        <p:spPr>
          <a:xfrm>
            <a:off x="14425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2"/>
          </p:nvPr>
        </p:nvSpPr>
        <p:spPr>
          <a:xfrm>
            <a:off x="373356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sldNum" idx="13"/>
          </p:nvPr>
        </p:nvSpPr>
        <p:spPr>
          <a:xfrm>
            <a:off x="6781320" y="6524640"/>
            <a:ext cx="213372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8FF4-87FA-4704-A2FB-DC736BBE5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2803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94920" y="1557000"/>
            <a:ext cx="82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9DD9-2729-480B-A399-150F0A5A3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47672-9273-4CD0-A3B6-51B2721F4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433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433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33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1d433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7a8e32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1d433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d433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d433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8402-CDC7-4CEA-BBD2-A426962CE7D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0C59-16EC-4B29-906B-68B7A70CDA8A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333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nhm.ac.uk/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8000" y="4581360"/>
            <a:ext cx="8064360" cy="8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4944"/>
                </a:solidFill>
                <a:latin typeface="Arial"/>
              </a:rPr>
              <a:t>Sleepovers</a:t>
            </a:r>
            <a:endParaRPr b="1" lang="en-US" sz="4000" spc="-1" strike="noStrike">
              <a:solidFill>
                <a:srgbClr val="1d4944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68000" y="5495400"/>
            <a:ext cx="8064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1d4337"/>
                </a:solidFill>
                <a:latin typeface="Arial"/>
              </a:rPr>
              <a:t>Unit 2, lesson 4</a:t>
            </a:r>
            <a:endParaRPr b="1" lang="en-US" sz="3400" spc="-1" strike="noStrike">
              <a:solidFill>
                <a:srgbClr val="1d433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© S. Kolodin, 2008                                                        sergei-alex@rambler.ru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leepover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396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0" lang="en-US" sz="2400" spc="-1" strike="noStrike">
                <a:solidFill>
                  <a:srgbClr val="284c6a"/>
                </a:solidFill>
                <a:latin typeface="Agency FB"/>
              </a:rPr>
              <a:t>i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[s]</a:t>
            </a:r>
            <a:br>
              <a:rPr sz="2400"/>
            </a:b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æ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[ai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[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ə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706840" y="1905120"/>
            <a:ext cx="5827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important [impo:t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ə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nt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sleeping bag, sleepover [`sli:p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ə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uv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ə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], snack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relax [ril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æks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dinosaurs [`dainəso:z], organizes [`o:gənaiziz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minerals [minərəlz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Sleepovers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3527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important [impo:t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  <a:ea typeface="Arial"/>
              </a:rPr>
              <a:t>ə</a:t>
            </a: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nt]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snack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1640" y="1905120"/>
            <a:ext cx="3962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важный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  <a:p>
            <a:pPr>
              <a:lnSpc>
                <a:spcPct val="125000"/>
              </a:lnSpc>
              <a:spcBef>
                <a:spcPts val="7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84c6a"/>
                </a:solidFill>
                <a:latin typeface="Trebuchet MS"/>
              </a:rPr>
              <a:t>легкая закуска</a:t>
            </a:r>
            <a:endParaRPr b="0" lang="en-US" sz="28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Do you agree?</a:t>
            </a:r>
            <a:br>
              <a:rPr sz="4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ex. 2-3, p. 34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Only the Natural History Museum organizes sleepovers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Museums organize sleepovers only at Halloween time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Children come to the museum alone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Children must bring their sleeping bags and snacks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Sleepovers begins after 10 p.m.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After sleepovers children come home in the morning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Museums organize sleepovers for fun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  <a:p>
            <a:pPr marL="322200" indent="-322200">
              <a:lnSpc>
                <a:spcPct val="115000"/>
              </a:lnSpc>
              <a:spcBef>
                <a:spcPts val="601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84c6a"/>
                </a:solidFill>
                <a:latin typeface="Trebuchet MS"/>
              </a:rPr>
              <a:t>Sleepovers can give new information and help you with your homework</a:t>
            </a:r>
            <a:endParaRPr b="0" lang="en-US" sz="24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Sleepovers</a:t>
            </a:r>
            <a:br>
              <a:rPr sz="4400"/>
            </a:br>
            <a:r>
              <a:rPr b="0" lang="en-US" sz="2400" spc="-1" strike="noStrike">
                <a:solidFill>
                  <a:srgbClr val="999900"/>
                </a:solidFill>
                <a:latin typeface="Garamond"/>
              </a:rPr>
              <a:t>(ex. 5, p. 35</a:t>
            </a:r>
            <a:endParaRPr b="0" lang="en-US" sz="2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6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1628640"/>
            <a:ext cx="1871640" cy="25005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3"/>
          <a:stretch/>
        </p:blipFill>
        <p:spPr>
          <a:xfrm>
            <a:off x="2484360" y="2708280"/>
            <a:ext cx="2714760" cy="294156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5224320" y="2019240"/>
            <a:ext cx="914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7338" y="59192"/>
                </a:moveTo>
                <a:lnTo>
                  <a:pt x="-1800" y="7477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419640" y="5229360"/>
            <a:ext cx="4179600" cy="636480"/>
            <a:chOff x="3419640" y="5229360"/>
            <a:chExt cx="4179600" cy="636480"/>
          </a:xfrm>
        </p:grpSpPr>
        <p:sp>
          <p:nvSpPr>
            <p:cNvPr id="468" name=""/>
            <p:cNvSpPr/>
            <p:nvPr/>
          </p:nvSpPr>
          <p:spPr>
            <a:xfrm>
              <a:off x="5880240" y="5535720"/>
              <a:ext cx="1719000" cy="330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3822" y="-12046"/>
                  </a:moveTo>
                  <a:lnTo>
                    <a:pt x="-957" y="74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ack le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419640" y="5229360"/>
              <a:ext cx="237636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924360" y="3755880"/>
            <a:ext cx="2735280" cy="330480"/>
            <a:chOff x="3924360" y="3755880"/>
            <a:chExt cx="2735280" cy="330480"/>
          </a:xfrm>
        </p:grpSpPr>
        <p:sp>
          <p:nvSpPr>
            <p:cNvPr id="471" name=""/>
            <p:cNvSpPr/>
            <p:nvPr/>
          </p:nvSpPr>
          <p:spPr>
            <a:xfrm>
              <a:off x="5256360" y="3755880"/>
              <a:ext cx="1403280" cy="330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w="21600" h="21600">
                  <a:moveTo>
                    <a:pt x="-13928" y="104"/>
                  </a:moveTo>
                  <a:lnTo>
                    <a:pt x="-1173" y="747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nt le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V="1">
              <a:off x="3924360" y="3860280"/>
              <a:ext cx="122400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"/>
          <p:cNvSpPr/>
          <p:nvPr/>
        </p:nvSpPr>
        <p:spPr>
          <a:xfrm>
            <a:off x="768240" y="2205000"/>
            <a:ext cx="914400" cy="33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71550" y="120254"/>
                </a:moveTo>
                <a:lnTo>
                  <a:pt x="23400" y="7477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25320" y="3860640"/>
            <a:ext cx="914400" cy="33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4113" y="65942"/>
                </a:moveTo>
                <a:lnTo>
                  <a:pt x="23400" y="7477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Sleepovers</a:t>
            </a:r>
            <a:br>
              <a:rPr sz="4000"/>
            </a:b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ex. 6, p. 36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What is missing in this pictures?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84c6a"/>
                </a:solidFill>
                <a:latin typeface="Trebuchet MS"/>
              </a:rPr>
              <a:t>Choose the right answer </a:t>
            </a:r>
            <a:r>
              <a:rPr b="0" lang="en-US" sz="2000" spc="-1" strike="noStrike">
                <a:solidFill>
                  <a:srgbClr val="284c6a"/>
                </a:solidFill>
                <a:latin typeface="Trebuchet MS"/>
              </a:rPr>
              <a:t>(ex. 9, p. 36)</a:t>
            </a:r>
            <a:endParaRPr b="0" lang="en-US" sz="20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432144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 sleepover is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 night excursion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 museum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 party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… </a:t>
            </a: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can organize sleepovers.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The Natural History Museum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The Tower of London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Many museum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Sleepovers normally start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morning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evening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afternoon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fter sleepovers children come home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morning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evening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533520" indent="-53352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in the afternoon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1640" y="1412640"/>
            <a:ext cx="4103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Children must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come with their Mum and Dad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bring their sleeping bag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bring snacks for breakfast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t sleepovers children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relax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sleep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learn interesting thing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Sleepovers help children with their homework in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History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Biology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Literature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At sleepovers children can …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play game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listen to interesting storie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  <a:p>
            <a:pPr marL="295560" indent="-295560">
              <a:lnSpc>
                <a:spcPct val="105000"/>
              </a:lnSpc>
              <a:spcBef>
                <a:spcPts val="400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84c6a"/>
                </a:solidFill>
                <a:latin typeface="Trebuchet MS"/>
              </a:rPr>
              <a:t>make things with their own hands</a:t>
            </a:r>
            <a:endParaRPr b="0" lang="en-US" sz="16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1000"/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1000"/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1000"/>
                                        <p:tgtEl>
                                          <p:spTgt spid="4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4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1000" fill="hold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1000" fill="hold"/>
                                        <p:tgtEl>
                                          <p:spTgt spid="4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1000" fill="hold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1000"/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1000" fill="hold"/>
                                        <p:tgtEl>
                                          <p:spTgt spid="4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" dur="1000" fill="hold"/>
                                        <p:tgtEl>
                                          <p:spTgt spid="4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1000" fill="hold"/>
                                        <p:tgtEl>
                                          <p:spTgt spid="4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2000" fill="hold"/>
                                        <p:tgtEl>
                                          <p:spTgt spid="47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" dur="2000" fill="hold"/>
                                        <p:tgtEl>
                                          <p:spTgt spid="47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2000" fill="hold"/>
                                        <p:tgtEl>
                                          <p:spTgt spid="47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cc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84c6a"/>
                </a:solidFill>
                <a:latin typeface="Trebuchet MS"/>
              </a:rPr>
              <a:t>Homework</a:t>
            </a:r>
            <a:endParaRPr b="0" lang="en-US" sz="4400" spc="-1" strike="noStrike">
              <a:solidFill>
                <a:srgbClr val="284c6a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80808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84c6a"/>
                </a:solidFill>
                <a:latin typeface="Trebuchet MS"/>
              </a:rPr>
              <a:t>Ex. 7, p. 36</a:t>
            </a:r>
            <a:endParaRPr b="0" lang="en-US" sz="3200" spc="-1" strike="noStrike">
              <a:solidFill>
                <a:srgbClr val="284c6a"/>
              </a:solidFill>
              <a:latin typeface="Trebuchet MS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9:16:11Z</dcterms:created>
  <dc:creator>Serge</dc:creator>
  <dc:description/>
  <dc:language>en-US</dc:language>
  <cp:lastModifiedBy>Serge</cp:lastModifiedBy>
  <dcterms:modified xsi:type="dcterms:W3CDTF">2008-09-30T21:59:36Z</dcterms:modified>
  <cp:revision>92</cp:revision>
  <dc:subject/>
  <dc:title>You are pupils, aren’t you? </dc:title>
</cp:coreProperties>
</file>